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3DD9-D2B8-4CD7-B623-F353405BB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9CFF-3734-4BDE-B076-61FC0AC1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31EF-2BFF-4726-8AC7-F0340469F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2535-7E17-40C5-9DF7-61008943E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9A65-5C7B-40F0-92EF-B3FFA353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896E-3EB0-4717-B4CA-73E9259E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96AA-7610-4B2F-A24E-D2ADF332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3BA8-074D-4007-B8A9-1E1A3895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E8FF-AF24-4648-A571-3061D2C5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3015-A3AB-47FF-A4F3-6C04E144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E07A-122A-4A36-9CE5-6254D4F9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65BD-6B77-447D-9E44-47481A00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8D66-6330-490E-85FC-2CA2AE3A6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doi.sc.gov/" TargetMode="External"/><Relationship Id="rId3" Type="http://schemas.openxmlformats.org/officeDocument/2006/relationships/hyperlink" Target="http://www.scsafehome.sc.gov/" TargetMode="External"/><Relationship Id="rId4" Type="http://schemas.openxmlformats.org/officeDocument/2006/relationships/hyperlink" Target="http://www.scsafehome.sc.gov/" TargetMode="External"/><Relationship Id="rId5" Type="http://schemas.openxmlformats.org/officeDocument/2006/relationships/hyperlink" Target="http://www.scsafehome.sc.gov/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c_photo_beachcha_lg"/>
          <p:cNvPicPr/>
          <p:nvPr/>
        </p:nvPicPr>
        <p:blipFill>
          <a:blip r:embed="rId1">
            <a:lum contrast="-18000"/>
          </a:blip>
          <a:stretch/>
        </p:blipFill>
        <p:spPr>
          <a:xfrm>
            <a:off x="228600" y="380880"/>
            <a:ext cx="3860640" cy="6248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609480" y="1295280"/>
            <a:ext cx="7423200" cy="13654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43" name="Picture 6" descr="State Seal Large"/>
          <p:cNvPicPr/>
          <p:nvPr/>
        </p:nvPicPr>
        <p:blipFill>
          <a:blip r:embed="rId3"/>
          <a:stretch/>
        </p:blipFill>
        <p:spPr>
          <a:xfrm>
            <a:off x="6477120" y="3733920"/>
            <a:ext cx="2361960" cy="23428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7"/>
          <p:cNvSpPr/>
          <p:nvPr/>
        </p:nvSpPr>
        <p:spPr>
          <a:xfrm>
            <a:off x="4343400" y="61722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th Carolina Department of In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4419720" y="1676520"/>
            <a:ext cx="449568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uth Carol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th Carolina’s population is increasing faster than national average, especially along co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astal residents make up one fourth of our statewide pop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South Carolina has experienced destructive hurricanes to include the Sea Island Hurricane of 1893 and more recently, Hurricane Hugo which made land fall in September 198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1"/>
          <a:stretch/>
        </p:blipFill>
        <p:spPr>
          <a:xfrm>
            <a:off x="6315120" y="304920"/>
            <a:ext cx="2448000" cy="19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8" descr="boat in charleston"/>
          <p:cNvPicPr/>
          <p:nvPr/>
        </p:nvPicPr>
        <p:blipFill>
          <a:blip r:embed="rId1"/>
          <a:stretch/>
        </p:blipFill>
        <p:spPr>
          <a:xfrm>
            <a:off x="438120" y="676440"/>
            <a:ext cx="3664080" cy="2712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hugo_01"/>
          <p:cNvPicPr/>
          <p:nvPr/>
        </p:nvPicPr>
        <p:blipFill>
          <a:blip r:embed="rId2"/>
          <a:stretch/>
        </p:blipFill>
        <p:spPr>
          <a:xfrm>
            <a:off x="4535640" y="817560"/>
            <a:ext cx="3889080" cy="24685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urricane Hu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ben sawyer"/>
          <p:cNvPicPr/>
          <p:nvPr/>
        </p:nvPicPr>
        <p:blipFill>
          <a:blip r:embed="rId3"/>
          <a:stretch/>
        </p:blipFill>
        <p:spPr>
          <a:xfrm>
            <a:off x="103320" y="3097080"/>
            <a:ext cx="5578200" cy="3267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ugoPerspective"/>
          <p:cNvPicPr/>
          <p:nvPr/>
        </p:nvPicPr>
        <p:blipFill>
          <a:blip r:embed="rId4"/>
          <a:stretch/>
        </p:blipFill>
        <p:spPr>
          <a:xfrm>
            <a:off x="4675320" y="2865600"/>
            <a:ext cx="429264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4131 -0.4104 C -0.5934 -0.42589 -0.63628 -0.41457 -0.51423 -0.41248 C -0.50208 -0.41063 -0.49131 -0.40624 -0.47934 -0.40393 C -0.46388 -0.39699 -0.45069 -0.38821 -0.43802 -0.37433 C -0.43107 -0.3667 -0.42795 -0.3563 -0.42065 -0.3489 C -0.4184 -0.33988 -0.41284 -0.33248 -0.40954 -0.3237 C -0.4059 -0.30381 -0.41111 -0.32578 -0.40312 -0.3089 C -0.3993 -0.30081 -0.40017 -0.29433 -0.39513 -0.28763 C -0.3927 -0.27792 -0.39097 -0.26543 -0.38576 -0.25803 C -0.38437 -0.25318 -0.3842 -0.24786 -0.38246 -0.24324 C -0.3769 -0.22821 -0.37534 -0.23006 -0.37135 -0.21803 C -0.37065 -0.21595 -0.37065 -0.21341 -0.36979 -0.21156 C -0.36857 -0.20902 -0.36631 -0.20763 -0.3651 -0.20532 C -0.36024 -0.1963 -0.35729 -0.18474 -0.35243 -0.17572 C -0.3394 -0.15144 -0.32065 -0.12971 -0.30156 -0.11445 C -0.2934 -0.10798 -0.28524 -0.09618 -0.27621 -0.09318 C -0.26614 -0.08462 -0.25607 -0.07884 -0.246 -0.07006 C -0.24045 -0.0652 -0.2401 -0.06335 -0.23489 -0.05942 C -0.22881 -0.0548 -0.22881 -0.05641 -0.22378 -0.05087 C -0.22204 -0.04902 -0.221 -0.04601 -0.21909 -0.04462 C -0.21579 -0.04208 -0.21163 -0.04208 -0.20798 -0.04046 C -0.19913 -0.0326 -0.18871 -0.02983 -0.17934 -0.02335 C -0.15954 -0.00994 -0.14166 -0.00277 -0.11909 -0.00023 C -0.09062 0.00902 -0.05503 0.00278 -0.02847 0.00185 C -0.01892 0.00116 -4.72222E-006 -0.00023 -4.72222E-006 -0.00023 E">
                                      <p:cBhvr>
                                        <p:cTn id="27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tewide Building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97 the SC General Assembly passed legislation calling for the adoption of a statewide building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gislation also created the Loss Mitigation Grant and Training Grant Program which provided start-up dollars to local jurisdictions for the development of code programs and for the training of code enforcement offic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urrently build to the 2006 IR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astrophe Savings 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x Credits for approved mitigation mea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mium Discounts for Approved Retro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urer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P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izes Director to issue emergency regulations when Governor declares state of emer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 Omnibus Coastal Property Insurance Reform Act of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457200" y="1600200"/>
            <a:ext cx="82296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"/>
          <p:cNvPicPr/>
          <p:nvPr/>
        </p:nvPicPr>
        <p:blipFill>
          <a:blip r:embed="rId1"/>
          <a:stretch/>
        </p:blipFill>
        <p:spPr>
          <a:xfrm>
            <a:off x="990720" y="5486400"/>
            <a:ext cx="342900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allocation about $2 mill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grants up to $5,000 to homeowners to retrofit their primary resid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143000" y="3962520"/>
            <a:ext cx="4419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04920" y="2743200"/>
            <a:ext cx="801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es homeowners about the potential catastrophic damages caused by high winds associated with hurrican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304920" y="3505320"/>
            <a:ext cx="510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sts homeowners in understanding what mitigation is and how it can help protect their proper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228600" y="4343400"/>
            <a:ext cx="525780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s existing housing stock in coastal South Carol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jobs and stimulates local econom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urages availability and affordability of homeowner’s insur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228600" y="4572000"/>
            <a:ext cx="4724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"/>
          <p:cNvPicPr/>
          <p:nvPr/>
        </p:nvPicPr>
        <p:blipFill>
          <a:blip r:embed="rId1"/>
          <a:stretch/>
        </p:blipFill>
        <p:spPr>
          <a:xfrm>
            <a:off x="1461960" y="274680"/>
            <a:ext cx="622008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"/>
          <p:cNvPicPr/>
          <p:nvPr/>
        </p:nvPicPr>
        <p:blipFill>
          <a:blip r:embed="rId2"/>
          <a:stretch/>
        </p:blipFill>
        <p:spPr>
          <a:xfrm>
            <a:off x="5979960" y="3181320"/>
            <a:ext cx="248760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ligible Retrof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2-7-14_DG_Accordian_shutter_open_low_res"/>
          <p:cNvPicPr/>
          <p:nvPr/>
        </p:nvPicPr>
        <p:blipFill>
          <a:blip r:embed="rId1"/>
          <a:stretch/>
        </p:blipFill>
        <p:spPr>
          <a:xfrm>
            <a:off x="3733920" y="3962520"/>
            <a:ext cx="2133360" cy="2031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IMG_9873_low_res"/>
          <p:cNvPicPr/>
          <p:nvPr/>
        </p:nvPicPr>
        <p:blipFill>
          <a:blip r:embed="rId2"/>
          <a:srcRect l="0" t="0" r="6036" b="0"/>
          <a:stretch/>
        </p:blipFill>
        <p:spPr>
          <a:xfrm>
            <a:off x="609480" y="3894120"/>
            <a:ext cx="2514600" cy="19684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3429000" y="60199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m Shutter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685800" y="60199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ble-end Bra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Eaveguard(R) applied to 2606 Bobwhite Roof - DSCF0012"/>
          <p:cNvPicPr/>
          <p:nvPr/>
        </p:nvPicPr>
        <p:blipFill>
          <a:blip r:embed="rId3"/>
          <a:stretch/>
        </p:blipFill>
        <p:spPr>
          <a:xfrm>
            <a:off x="533520" y="1752480"/>
            <a:ext cx="2361960" cy="17719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9"/>
          <p:cNvSpPr/>
          <p:nvPr/>
        </p:nvSpPr>
        <p:spPr>
          <a:xfrm>
            <a:off x="2971800" y="25909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f covering with Secondary water b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2" descr=""/>
          <p:cNvPicPr/>
          <p:nvPr/>
        </p:nvPicPr>
        <p:blipFill>
          <a:blip r:embed="rId4"/>
          <a:stretch/>
        </p:blipFill>
        <p:spPr>
          <a:xfrm>
            <a:off x="6858000" y="1447920"/>
            <a:ext cx="1663560" cy="21524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3"/>
          <p:cNvSpPr/>
          <p:nvPr/>
        </p:nvSpPr>
        <p:spPr>
          <a:xfrm>
            <a:off x="6781680" y="38098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Re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4"/>
          <p:cNvSpPr/>
          <p:nvPr/>
        </p:nvSpPr>
        <p:spPr>
          <a:xfrm>
            <a:off x="380880" y="1447920"/>
            <a:ext cx="5334120" cy="21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5"/>
          <p:cNvSpPr/>
          <p:nvPr/>
        </p:nvSpPr>
        <p:spPr>
          <a:xfrm>
            <a:off x="457200" y="3809880"/>
            <a:ext cx="281952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6"/>
          <p:cNvSpPr/>
          <p:nvPr/>
        </p:nvSpPr>
        <p:spPr>
          <a:xfrm>
            <a:off x="3352680" y="3809880"/>
            <a:ext cx="289584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7"/>
          <p:cNvSpPr/>
          <p:nvPr/>
        </p:nvSpPr>
        <p:spPr>
          <a:xfrm>
            <a:off x="6477120" y="1219320"/>
            <a:ext cx="22096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4920" y="12952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we toda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28600" y="1523880"/>
            <a:ext cx="6324480" cy="52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than 1100 grants awarded totaling approximately $5 million in 11 coastal coun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reach events to citizens through meetings, expos, school activities, classes and train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nerships with public and private ent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Safe Home is a model program and is being replicated in other states with coastal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igation goes mai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today.msnbc.msn.com/id/3041440/vp/39737094#3973709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"/>
          <p:cNvPicPr/>
          <p:nvPr/>
        </p:nvPicPr>
        <p:blipFill>
          <a:blip r:embed="rId1"/>
          <a:stretch/>
        </p:blipFill>
        <p:spPr>
          <a:xfrm>
            <a:off x="6589800" y="3333600"/>
            <a:ext cx="237816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1523880" y="762120"/>
            <a:ext cx="6220080" cy="12189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1447920" y="3886200"/>
            <a:ext cx="594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371600" y="2362320"/>
            <a:ext cx="62485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th Carolina Department of In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01 Main Street, Suite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umbia, SC 292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 Box 1001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umbia, SC 29202-31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3-737-60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doi.sc.gov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scsafehome.sc.gov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19:38:39Z</dcterms:created>
  <dc:creator>User</dc:creator>
  <dc:description/>
  <dc:language>en-US</dc:language>
  <cp:lastModifiedBy>Ann B Roberson</cp:lastModifiedBy>
  <dcterms:modified xsi:type="dcterms:W3CDTF">2010-10-25T04:01:39Z</dcterms:modified>
  <cp:revision>58</cp:revision>
  <dc:subject/>
  <dc:title>Slide 1</dc:title>
</cp:coreProperties>
</file>