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19.jpeg" ContentType="image/jpeg"/>
  <Override PartName="/ppt/media/image25.png" ContentType="image/png"/>
  <Override PartName="/ppt/media/image42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4.jpeg" ContentType="image/jpeg"/>
  <Override PartName="/ppt/media/image15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3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B753-6504-4FD1-8A01-68C0F2919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AEEA-A88B-44E9-A344-87F33EF11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E1D0-C1C8-40A9-B5C6-B3326D3DE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AB2D-A4EB-4F23-A6FF-F67BCBBE2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97D7-F496-4E9F-A84A-5C6202638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58th I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history of su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al publication of the National Hurricane Operation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uccessful partnership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’s Hurricane Liaison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ing of model data (United Kingdom’s UKMET, Navy NOGA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Air Force Reserve–reconnaiss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and outreach with FEMA, Red Cross, 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Air Force Weather partners who transmit our data and produce forecasts (JTW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Geological Surv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Coastal Services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919D-646F-492B-B965-85D5934FD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664-A5D7-4589-A726-FC5A349F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735-9B8A-4250-9799-9B94B3BC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2D6-36E4-4696-9BC3-5955F068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D00-745D-453E-8B2A-C5ECCCDA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ED9C-126A-4C28-AFBC-80AF9A81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F632-A50A-4016-A8BE-32F1DF00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AD1F-52E3-462F-959C-6D7634BE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300C-DA17-4E8D-910B-B52B65CC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11CE-70AF-4C22-A6C8-8C358DB3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78BE-46E7-49C1-9343-F0274CAF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3A44-E4C0-4774-BE2D-B2C92CD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C7C-FF2A-4476-9198-39DBE075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CA44-9E55-4DED-B092-E37B03D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6F1F-E95A-4FB5-BA55-2A04658D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8B81-E0ED-4EBF-B042-787FABF3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09E4-9A0A-4C0D-8726-ABD340E8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AFE0-1918-407E-A8A2-DC2CF130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556A1-0AC0-468C-964C-BB756D22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4E0EB-D7FC-4CD3-AEEB-03A3D248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2BA26-14D7-4085-A299-2E8C3453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F44A6-56AF-457E-9B63-F29707AF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8F899-16B0-405D-87A3-4FF2C4DE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CDB-EB9D-49BD-B7AA-EA62BB3D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943AE-D3EF-402D-BEE6-B6B4F41E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920D4-2D06-4893-8CF1-24F5A944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05A20-AD9A-420D-BC8C-AC0FA07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27C89-3400-42C1-AF88-998145BD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C6770-0B96-4747-A75D-456D5C43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42420-E1BE-4D9E-87AF-82BCE5D9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7F334-3438-440E-A097-E5ED2101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F0C-47C1-486F-9E9B-DFFF2A87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05A-3370-4375-A38A-50CCAE3A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747-3CCF-4C10-A9D5-112CE81E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E47-EDA3-4F46-A8EB-874E227B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ABE-2674-4181-9EC3-5E1B984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FE2-21C2-4A63-8082-F57A8A3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3F5D-4682-40FD-AE23-FBFB54478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55C-4E93-4BE6-8A87-BF44B6C5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292C-DC8A-4A46-B76F-5797DA2C61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atoc.colorado.edu/~cassano/weather/charley/radar/tbw_vel/radar.html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HURRICANE OBSERVATIONS</a:t>
            </a:r>
            <a:br>
              <a:rPr sz="36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3520" y="4114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r. Richard M. Yablonsky (URI/GS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HSS Teacher’s Institute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URI Coastal Institute, Narragansett, 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uesday, 27 July 2010 at 10:00 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montage_frances_notr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45720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rricane Frances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33520" y="60958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mage courtesy of CIMMS / Univ of Wiscon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lack and white image of hurricane Katrina"/>
          <p:cNvPicPr/>
          <p:nvPr/>
        </p:nvPicPr>
        <p:blipFill>
          <a:blip r:embed="rId1"/>
          <a:stretch/>
        </p:blipFill>
        <p:spPr>
          <a:xfrm>
            <a:off x="0" y="0"/>
            <a:ext cx="9144000" cy="78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tional Hurricane Cen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Miami, F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NHC forecasters"/>
          <p:cNvPicPr/>
          <p:nvPr/>
        </p:nvPicPr>
        <p:blipFill>
          <a:blip r:embed="rId1"/>
          <a:stretch/>
        </p:blipFill>
        <p:spPr>
          <a:xfrm>
            <a:off x="0" y="1622520"/>
            <a:ext cx="9144000" cy="5235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5337360" y="6456240"/>
            <a:ext cx="23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www.nhc.noaa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olarorbit-frame"/>
          <p:cNvPicPr/>
          <p:nvPr/>
        </p:nvPicPr>
        <p:blipFill>
          <a:blip r:embed="rId1"/>
          <a:stretch/>
        </p:blipFill>
        <p:spPr>
          <a:xfrm>
            <a:off x="1447920" y="1603440"/>
            <a:ext cx="6219720" cy="5254560"/>
          </a:xfrm>
          <a:prstGeom prst="rect">
            <a:avLst/>
          </a:prstGeom>
          <a:ln w="0">
            <a:noFill/>
          </a:ln>
        </p:spPr>
      </p:pic>
      <p:sp>
        <p:nvSpPr>
          <p:cNvPr id="178" name="Tit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 Orbiting Satell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un-synchronous"/>
          <p:cNvPicPr/>
          <p:nvPr/>
        </p:nvPicPr>
        <p:blipFill>
          <a:blip r:embed="rId1"/>
          <a:stretch/>
        </p:blipFill>
        <p:spPr>
          <a:xfrm>
            <a:off x="-2957400" y="3124080"/>
            <a:ext cx="12025080" cy="2971800"/>
          </a:xfrm>
          <a:prstGeom prst="rect">
            <a:avLst/>
          </a:prstGeom>
          <a:ln w="0">
            <a:noFill/>
          </a:ln>
        </p:spPr>
      </p:pic>
      <p:sp>
        <p:nvSpPr>
          <p:cNvPr id="180" name="Tit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 Orbiting Satell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Visible imagery, Hurricane Isabel in the Atlantic Ocean, September 15, 2003. The image was taken as the sun rises, coloring the right side of the image."/>
          <p:cNvPicPr/>
          <p:nvPr/>
        </p:nvPicPr>
        <p:blipFill>
          <a:blip r:embed="rId1"/>
          <a:stretch/>
        </p:blipFill>
        <p:spPr>
          <a:xfrm>
            <a:off x="1600200" y="1687680"/>
            <a:ext cx="5943600" cy="51703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abel (2003) from NOAA-15 Polar Orbiting Satell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23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an’s Role in Hurricane Int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ellite Infrared Image of Sea Surface Temperature Hurricane Gert (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Gert_AVHRRwake_new"/>
          <p:cNvPicPr/>
          <p:nvPr/>
        </p:nvPicPr>
        <p:blipFill>
          <a:blip r:embed="rId1"/>
          <a:stretch/>
        </p:blipFill>
        <p:spPr>
          <a:xfrm>
            <a:off x="1295280" y="1066680"/>
            <a:ext cx="685800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mage of winds for Hurricane Ike.  Colors show the wind intensity and barbs show the wind direction.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53341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ean Surface Winds from QuikS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face Wind Speeds from AS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Image of ASCAT global wind data. Data is in stripes along the satellite orbital path. Colors indicate the strength of the winds."/>
          <p:cNvPicPr/>
          <p:nvPr/>
        </p:nvPicPr>
        <p:blipFill>
          <a:blip r:embed="rId1"/>
          <a:stretch/>
        </p:blipFill>
        <p:spPr>
          <a:xfrm>
            <a:off x="1219320" y="194328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ta (2005) Rain Rate from TR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2" descr="Color 3-D image of precipitation in Hurricane Rita."/>
          <p:cNvPicPr/>
          <p:nvPr/>
        </p:nvPicPr>
        <p:blipFill>
          <a:blip r:embed="rId1"/>
          <a:stretch/>
        </p:blipFill>
        <p:spPr>
          <a:xfrm>
            <a:off x="1447920" y="1932120"/>
            <a:ext cx="624816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rricane Fore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chain"/>
          <p:cNvPicPr/>
          <p:nvPr/>
        </p:nvPicPr>
        <p:blipFill>
          <a:blip r:embed="rId1"/>
          <a:stretch/>
        </p:blipFill>
        <p:spPr>
          <a:xfrm>
            <a:off x="457200" y="2619360"/>
            <a:ext cx="8534520" cy="3371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2408400" y="2362320"/>
            <a:ext cx="132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0800" y="4861080"/>
            <a:ext cx="201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775320" y="486108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748120" y="259092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se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346880" y="51656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0" y="4495680"/>
            <a:ext cx="2438280" cy="1447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ual Lightning from TR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Map showing total lightning flashes in 2009."/>
          <p:cNvPicPr/>
          <p:nvPr/>
        </p:nvPicPr>
        <p:blipFill>
          <a:blip r:embed="rId1"/>
          <a:stretch/>
        </p:blipFill>
        <p:spPr>
          <a:xfrm>
            <a:off x="0" y="2057400"/>
            <a:ext cx="91774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Air Force’s WC-130J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Hurricane Hunter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" descr="C:\Users\Richard\Desktop\HSS_teachers_institute\hss_teachers_institute_images\plane2.jpg"/>
          <p:cNvPicPr/>
          <p:nvPr/>
        </p:nvPicPr>
        <p:blipFill>
          <a:blip r:embed="rId1"/>
          <a:stretch/>
        </p:blipFill>
        <p:spPr>
          <a:xfrm>
            <a:off x="0" y="2109960"/>
            <a:ext cx="914400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ke (2008) Eye from Hurricane Hunter Airc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C:\Users\Richard\Desktop\HSS_teachers_institute\hss_teachers_institute_images\AircraftinIkeeye[1].jpg"/>
          <p:cNvPicPr/>
          <p:nvPr/>
        </p:nvPicPr>
        <p:blipFill>
          <a:blip r:embed="rId1"/>
          <a:stretch/>
        </p:blipFill>
        <p:spPr>
          <a:xfrm>
            <a:off x="914400" y="2108160"/>
            <a:ext cx="71629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AA’s WP-3D Orion (“P-3”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Photo of a WP-DR Orion aircraft."/>
          <p:cNvPicPr/>
          <p:nvPr/>
        </p:nvPicPr>
        <p:blipFill>
          <a:blip r:embed="rId1"/>
          <a:stretch/>
        </p:blipFill>
        <p:spPr>
          <a:xfrm>
            <a:off x="685800" y="1906560"/>
            <a:ext cx="74674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23619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rina (2005) Ey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NOAA P-3 Airc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" descr="View of Hurricane Katrina’s (2005) eye from a WP-3D Orion aircraft."/>
          <p:cNvPicPr/>
          <p:nvPr/>
        </p:nvPicPr>
        <p:blipFill>
          <a:blip r:embed="rId1"/>
          <a:stretch/>
        </p:blipFill>
        <p:spPr>
          <a:xfrm>
            <a:off x="4057560" y="0"/>
            <a:ext cx="516276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AA’s Gulfstream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" descr="Image of a Gulfstream IV-SP (G-IV) reconnaissance twin turbofan jet aircraft,"/>
          <p:cNvPicPr/>
          <p:nvPr/>
        </p:nvPicPr>
        <p:blipFill>
          <a:blip r:embed="rId1"/>
          <a:stretch/>
        </p:blipFill>
        <p:spPr>
          <a:xfrm>
            <a:off x="1371600" y="2286000"/>
            <a:ext cx="6858000" cy="46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opwindsonde Instr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C:\Users\Richard\Desktop\HSS_teachers_institute\hss_teachers_institute_images\DropsondeCompleteImage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6925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1371600" y="6019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gles cans with microprocessors and parachu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rborne eXpendable BathyTheromograph (AX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C:\Users\Richard\Desktop\HSS_teachers_institute\AXBTCombinedImage.jpg"/>
          <p:cNvPicPr/>
          <p:nvPr/>
        </p:nvPicPr>
        <p:blipFill>
          <a:blip r:embed="rId1"/>
          <a:stretch/>
        </p:blipFill>
        <p:spPr>
          <a:xfrm>
            <a:off x="1295280" y="1981080"/>
            <a:ext cx="6489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Navy’s MV Cape Vincent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Voluntary Observing Ship (VOS)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A ship that is actively involved in the VOS program: the MV Cape Vincent."/>
          <p:cNvPicPr/>
          <p:nvPr/>
        </p:nvPicPr>
        <p:blipFill>
          <a:blip r:embed="rId1"/>
          <a:stretch/>
        </p:blipFill>
        <p:spPr>
          <a:xfrm>
            <a:off x="1447920" y="2076480"/>
            <a:ext cx="6324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ip-based XBT / Temperature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2" descr="An expendable bathythermograph (XBT) being launched from on a ship"/>
          <p:cNvPicPr/>
          <p:nvPr/>
        </p:nvPicPr>
        <p:blipFill>
          <a:blip r:embed="rId1"/>
          <a:stretch/>
        </p:blipFill>
        <p:spPr>
          <a:xfrm>
            <a:off x="276120" y="1905120"/>
            <a:ext cx="3915000" cy="4952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A simple temperature-depth ocean water profile (what you might expect to find in low to middle latitudes)."/>
          <p:cNvPicPr/>
          <p:nvPr/>
        </p:nvPicPr>
        <p:blipFill>
          <a:blip r:embed="rId2"/>
          <a:stretch/>
        </p:blipFill>
        <p:spPr>
          <a:xfrm>
            <a:off x="4610160" y="1905120"/>
            <a:ext cx="4076640" cy="4952880"/>
          </a:xfrm>
          <a:prstGeom prst="rect">
            <a:avLst/>
          </a:prstGeom>
          <a:ln w="0">
            <a:noFill/>
          </a:ln>
        </p:spPr>
      </p:pic>
      <p:sp>
        <p:nvSpPr>
          <p:cNvPr id="213" name="Straight Connector 7"/>
          <p:cNvSpPr/>
          <p:nvPr/>
        </p:nvSpPr>
        <p:spPr>
          <a:xfrm>
            <a:off x="5562720" y="2651040"/>
            <a:ext cx="3047760" cy="158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geoss"/>
          <p:cNvPicPr/>
          <p:nvPr/>
        </p:nvPicPr>
        <p:blipFill>
          <a:blip r:embed="rId1"/>
          <a:stretch/>
        </p:blipFill>
        <p:spPr>
          <a:xfrm>
            <a:off x="304920" y="0"/>
            <a:ext cx="8616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AA Buoy 41010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ed 82 mph wind during Floyd (19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Photo of NOAA data buoy 41010, which was crossed by the eye of Hurricane Floyd in 1999."/>
          <p:cNvPicPr/>
          <p:nvPr/>
        </p:nvPicPr>
        <p:blipFill>
          <a:blip r:embed="rId1"/>
          <a:stretch/>
        </p:blipFill>
        <p:spPr>
          <a:xfrm>
            <a:off x="863640" y="1857240"/>
            <a:ext cx="751824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AA Buoy 42003 in Katrina (200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Buoy data for Hurricane Katrina."/>
          <p:cNvPicPr/>
          <p:nvPr/>
        </p:nvPicPr>
        <p:blipFill>
          <a:blip r:embed="rId1"/>
          <a:stretch/>
        </p:blipFill>
        <p:spPr>
          <a:xfrm>
            <a:off x="106200" y="2438280"/>
            <a:ext cx="896148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5720400" y="4648320"/>
            <a:ext cx="16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Wave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5283720" y="327672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Wave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 rot="16200000">
            <a:off x="4664160" y="41853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8915400" y="419112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6"/>
          <p:cNvSpPr/>
          <p:nvPr/>
        </p:nvSpPr>
        <p:spPr>
          <a:xfrm rot="16200000">
            <a:off x="8670600" y="428760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pler Ra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NEXRAD Doppler radar tower."/>
          <p:cNvPicPr/>
          <p:nvPr/>
        </p:nvPicPr>
        <p:blipFill>
          <a:blip r:embed="rId1"/>
          <a:stretch/>
        </p:blipFill>
        <p:spPr>
          <a:xfrm>
            <a:off x="457200" y="1890720"/>
            <a:ext cx="3352680" cy="4967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Photograph of a Doppler radar with a rain shaft behind it."/>
          <p:cNvPicPr/>
          <p:nvPr/>
        </p:nvPicPr>
        <p:blipFill>
          <a:blip r:embed="rId2"/>
          <a:stretch/>
        </p:blipFill>
        <p:spPr>
          <a:xfrm>
            <a:off x="3797280" y="2552760"/>
            <a:ext cx="527040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9" descr="http://www.ncdc.noaa.gov/oa/radar/jnx/tutimages/Charley-KTBW-N0R-2006-annotated2.jpg"/>
          <p:cNvPicPr/>
          <p:nvPr/>
        </p:nvPicPr>
        <p:blipFill>
          <a:blip r:embed="rId1"/>
          <a:stretch/>
        </p:blipFill>
        <p:spPr>
          <a:xfrm>
            <a:off x="0" y="1066680"/>
            <a:ext cx="9137520" cy="60199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pler Radar Refle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www.ncdc.noaa.gov/oa/radar/jnx/tutimages/Charley-KTBW-N0V-N0S-20-06-cropped.jpg"/>
          <p:cNvPicPr/>
          <p:nvPr/>
        </p:nvPicPr>
        <p:blipFill>
          <a:blip r:embed="rId1"/>
          <a:stretch/>
        </p:blipFill>
        <p:spPr>
          <a:xfrm>
            <a:off x="19080" y="1371600"/>
            <a:ext cx="9201240" cy="48196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pler Radar Radial Velo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ley (2004): Doppler Radar Reflectivity and Radial Velo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atoc.colorado.edu/~cassano/weather/charley/radar/tbw_ref/radar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toc.colorado.edu/~cassano/weather/charley/radar/tbw_vel/radar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osondes &amp; Rawinsondes: Weather Ballo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" descr="Early launch (May 1936) of a radiosonde developed by the U.S. Bureau of Standards Launch Preparations at the Washington Airport blimp hangar."/>
          <p:cNvPicPr/>
          <p:nvPr/>
        </p:nvPicPr>
        <p:blipFill>
          <a:blip r:embed="rId1"/>
          <a:stretch/>
        </p:blipFill>
        <p:spPr>
          <a:xfrm>
            <a:off x="0" y="1952640"/>
            <a:ext cx="3276720" cy="4905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A 1997 radiosonde release (orange balloon) outside a NWS balloon inflation shelter."/>
          <p:cNvPicPr/>
          <p:nvPr/>
        </p:nvPicPr>
        <p:blipFill>
          <a:blip r:embed="rId2"/>
          <a:stretch/>
        </p:blipFill>
        <p:spPr>
          <a:xfrm>
            <a:off x="3352680" y="1981080"/>
            <a:ext cx="57387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Radiosonde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" descr="Map showing the global radiosonde network."/>
          <p:cNvPicPr/>
          <p:nvPr/>
        </p:nvPicPr>
        <p:blipFill>
          <a:blip r:embed="rId1"/>
          <a:stretch/>
        </p:blipFill>
        <p:spPr>
          <a:xfrm>
            <a:off x="0" y="224964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-based weather station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OS/AWOS, WeatherFlow, Mobil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upload.wikimedia.org/wikipedia/en/a/a5/Asos_SNS_sunset.jpg"/>
          <p:cNvPicPr/>
          <p:nvPr/>
        </p:nvPicPr>
        <p:blipFill>
          <a:blip r:embed="rId1"/>
          <a:stretch/>
        </p:blipFill>
        <p:spPr>
          <a:xfrm>
            <a:off x="0" y="1981080"/>
            <a:ext cx="3354480" cy="20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Map showing 100 WeatherFlow station locations"/>
          <p:cNvPicPr/>
          <p:nvPr/>
        </p:nvPicPr>
        <p:blipFill>
          <a:blip r:embed="rId2"/>
          <a:stretch/>
        </p:blipFill>
        <p:spPr>
          <a:xfrm>
            <a:off x="0" y="4114800"/>
            <a:ext cx="3201840" cy="2743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A WeatherFlow coastal weather station located in Jacksonville, FL."/>
          <p:cNvPicPr/>
          <p:nvPr/>
        </p:nvPicPr>
        <p:blipFill>
          <a:blip r:embed="rId3"/>
          <a:stretch/>
        </p:blipFill>
        <p:spPr>
          <a:xfrm>
            <a:off x="3200400" y="4105440"/>
            <a:ext cx="2857680" cy="2752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Tower deployment in advance of Hurricane Charley (2004)."/>
          <p:cNvPicPr/>
          <p:nvPr/>
        </p:nvPicPr>
        <p:blipFill>
          <a:blip r:embed="rId4"/>
          <a:stretch/>
        </p:blipFill>
        <p:spPr>
          <a:xfrm>
            <a:off x="5499000" y="1981080"/>
            <a:ext cx="36450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09480" y="76212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fore we can predict what a storm will do in the future, we need to know what the storm, the atmosphere, and the ocean look like right now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52280" y="1600200"/>
            <a:ext cx="411480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adiosondes: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 Instruments attached to weather balloons that transmit temperature, humidity, &amp; wind data back to the ground.  These balloons are launched globally twice a day.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2280" y="3352680"/>
            <a:ext cx="4114800" cy="91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urface:</a:t>
            </a:r>
            <a:r>
              <a:rPr b="1" lang="en-US" sz="1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Thousands of weather stations across the globe report weather conditions every hour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238880" y="1617840"/>
            <a:ext cx="1828800" cy="20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atellites:</a:t>
            </a:r>
            <a:r>
              <a:rPr b="1" lang="en-US" sz="1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Gather data on clouds, water vapor, and land &amp; sea surface temperatures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419720" y="1617840"/>
            <a:ext cx="274320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ircraft:</a:t>
            </a:r>
            <a:r>
              <a:rPr b="1" lang="en-US" sz="1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Commercial aircraft regularly report weather data.  NOAA “Hurricane Hunter” aircraft penetrate hurricanes to gather valuable data on the st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9" descr="noaa_p3_aircraft"/>
          <p:cNvPicPr/>
          <p:nvPr/>
        </p:nvPicPr>
        <p:blipFill>
          <a:blip r:embed="rId1"/>
          <a:stretch/>
        </p:blipFill>
        <p:spPr>
          <a:xfrm>
            <a:off x="914400" y="4465800"/>
            <a:ext cx="2362320" cy="1887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isabel_p3_eye"/>
          <p:cNvPicPr/>
          <p:nvPr/>
        </p:nvPicPr>
        <p:blipFill>
          <a:blip r:embed="rId2"/>
          <a:stretch/>
        </p:blipFill>
        <p:spPr>
          <a:xfrm>
            <a:off x="4495680" y="4038480"/>
            <a:ext cx="2514600" cy="1882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228600" y="6400800"/>
            <a:ext cx="380988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Two NOAA P3 “Hurricane Hunter”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343400" y="5943600"/>
            <a:ext cx="2743200" cy="8380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View from a Hurricane Hunter aircraft inside the eye of category 5 Hurricane Isab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4" descr="orbiter-concept_npoes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238880" y="3809880"/>
            <a:ext cx="188604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Text Box 15"/>
          <p:cNvSpPr/>
          <p:nvPr/>
        </p:nvSpPr>
        <p:spPr>
          <a:xfrm>
            <a:off x="7315200" y="6400800"/>
            <a:ext cx="175248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Weather satel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ivan"/>
          <p:cNvPicPr/>
          <p:nvPr/>
        </p:nvPicPr>
        <p:blipFill>
          <a:blip r:embed="rId1"/>
          <a:stretch/>
        </p:blipFill>
        <p:spPr>
          <a:xfrm>
            <a:off x="-4103640" y="-1922400"/>
            <a:ext cx="18200520" cy="11371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933200" y="15228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rricane Ivan on September 9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1295280" y="3535200"/>
            <a:ext cx="63993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818520" y="35352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~ 25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9"/>
          <p:cNvSpPr/>
          <p:nvPr/>
        </p:nvSpPr>
        <p:spPr>
          <a:xfrm rot="18900000">
            <a:off x="3575160" y="1635120"/>
            <a:ext cx="301680" cy="1810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345200" y="1476360"/>
            <a:ext cx="2207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thunderstorm in 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Ivan’s spiral 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4038120" y="1752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7242480" y="6248520"/>
            <a:ext cx="186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mage courtesy of NOA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geosync-movie-frame"/>
          <p:cNvPicPr/>
          <p:nvPr/>
        </p:nvPicPr>
        <p:blipFill>
          <a:blip r:embed="rId1"/>
          <a:stretch/>
        </p:blipFill>
        <p:spPr>
          <a:xfrm>
            <a:off x="1444680" y="1600200"/>
            <a:ext cx="6251400" cy="5257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stationary Satell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GOES West image of Earth"/>
          <p:cNvPicPr/>
          <p:nvPr/>
        </p:nvPicPr>
        <p:blipFill>
          <a:blip r:embed="rId1"/>
          <a:stretch/>
        </p:blipFill>
        <p:spPr>
          <a:xfrm>
            <a:off x="2133720" y="198108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ES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GOES East view of Earth"/>
          <p:cNvPicPr/>
          <p:nvPr/>
        </p:nvPicPr>
        <p:blipFill>
          <a:blip r:embed="rId1"/>
          <a:stretch/>
        </p:blipFill>
        <p:spPr>
          <a:xfrm>
            <a:off x="2133720" y="198108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ES E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tester"/>
          <p:cNvPicPr/>
          <p:nvPr/>
        </p:nvPicPr>
        <p:blipFill>
          <a:blip r:embed="rId1"/>
          <a:stretch/>
        </p:blipFill>
        <p:spPr>
          <a:xfrm>
            <a:off x="2133720" y="1981080"/>
            <a:ext cx="5170320" cy="4873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ES East with Floyd (19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ard M. Yablonsky</cp:lastModifiedBy>
  <dcterms:modified xsi:type="dcterms:W3CDTF">2010-07-27T11:41:48Z</dcterms:modified>
  <cp:revision>136</cp:revision>
  <dc:subject/>
  <dc:title>Jamestown Philomenian Library Hurricane Lecture on 8/11/05</dc:title>
</cp:coreProperties>
</file>